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5D04-8505-419C-AB5F-E2A27134F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20B1-2F27-4FF9-A5FB-623141435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9E5F-5F81-41BE-842F-1D2C39F5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19B6-BECE-4D4A-954E-A467689A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4DB8-015B-417C-96B0-61503832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E17E-AE42-46E9-B2F1-B8C91EA1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B612-B301-4ADB-9678-5E9EDCF6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EE4C-CB1B-4AFC-9701-0FEC952D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2BBF-BFDC-4AC3-AE0F-A987F1B1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F3AA-45E0-4890-B2B5-F3AAEEAC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DC64-3A48-44D0-B907-A76C2E15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BC81-8DFB-4BC0-AA80-F32155CF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B0C4-4C14-4794-B306-05EEB6DC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9064-E47E-4889-8D50-761AE839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A4A9-F758-4496-8038-A7C035904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aelin Col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aelin Col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elin Col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, buenos dias? Mi nombre es Kaelin. Yo vivo en el New York City. Yo tengo catorce años.Yo tengo no hermanos. Yo soy bie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4:56:21Z</dcterms:modified>
  <cp:revision>101</cp:revision>
  <dc:subject/>
  <dc:title>Profile</dc:title>
</cp:coreProperties>
</file>